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21C9-6A42-4A96-8177-E08996C2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336D-B2F2-46EF-BE0F-4021899B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F9E5-3F6B-46EA-A54E-E4EBA738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AAB0-FD25-439D-8656-20885244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6288-17C1-421D-AEE3-FF2F6FD4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7838-CA7C-43D6-B31F-8A8023E6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ABEF-94D3-4517-9653-6C89AA6E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4D37F-3068-4684-8474-54C10E6B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74D1-8513-4AAF-9088-6EF514EE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501E-28E2-4E29-9EB4-855D65BD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E3D3-2FB5-4F23-AAC2-2E7AA079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8F65-6A2E-462A-8EB1-7491E283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785C0-F68F-4E70-83A7-DF7F9896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CEB6-A8B9-4710-8DF7-9C362D3B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0DC8-061F-4B14-9F36-CCBC9C3D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A473-E90E-459B-B585-20B2726F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B762-C253-4E29-BCF4-0D408B57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17E9C-4A13-4418-B16E-A7BCF66A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1AA64-F70B-4416-8AE4-EAE084BE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3A799-189F-4A02-B68E-9502E18F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63F88-97E0-408A-B25E-1E357C18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65911-FFCC-49D2-BC34-5570BF64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52A0-188E-431A-B7FD-5FFDC936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838E7-87BB-47FA-B271-A6553CEE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BEDAA-2DC6-4430-9BE0-D69FAC7D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0F024-C667-4FEA-A58D-12059829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14C35-A220-4093-BAED-9AA94430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87416-D74E-4B91-BAFF-2970E851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925BE-8CEE-4734-A0CA-7FB2FEB9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484C3-216E-4ED6-99B1-84F7848F8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9987B-143A-4C0C-AF14-A7CD0156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FCD51-18D4-467F-92EB-C60B846B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8C32D-527C-4440-AD80-BDEBF8F3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A05-6FA0-4431-86F8-93682778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C5EF1-BD51-402B-A7A6-596329DE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CAFC7-9823-478C-8B00-489BE1B6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6FDAB-148E-48CC-A4D3-A4DC62EC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E1FDA-AA42-4501-9653-2332BB3F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72DF0-D97D-4D7D-BD76-F7D8141F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99016-897E-4421-9522-5985FCC5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EC27D-56C8-44F7-A338-E18B78F0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980FD-5004-4626-9AAA-60EDF1D2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3D2BF-59EF-468D-93E0-ADBDFC22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3FCEB-EE37-4D7D-B0F8-F0F29B0F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E887-B82F-4B36-BE9E-1BA760BF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3BE76-9D0F-4E09-991F-2EAC733C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0115A-7A6F-4152-A59F-3E3362B4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575F3-6DCD-478F-981C-E4A1B61D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3914D-2743-4B40-986C-B2C573C0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42B82-3F96-4F05-BE9B-246DB840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AC03F-A246-4E1A-A074-77CB8EDD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FB5D5-139C-4195-99EE-FEEBB4C1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EE869-03E6-4323-B172-713FF720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37C16-9ADE-4976-8663-2BC0C92F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89F46-221B-4B56-9889-706CCE3F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DCA0-A55B-4951-9DB0-EE1290FC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C69CF-6699-456E-9D9E-A2E294E3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5E558-EB91-4B3C-9A80-1CA2EDDE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C427A-11B2-4C35-898E-EAFA107D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C6D0E-566D-4B9D-AD5E-AAC98C34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92229-C874-4768-939A-0D88C5C2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3C0A8-4620-43BE-B312-7E96282B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4D37C-E046-4A52-80A0-EBB0DEF6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A2C78-D406-4849-8DA4-626D7420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586D1-A0FB-48D2-A9DE-3E5C2325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3CE7E-161B-46DE-9960-41E72D92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C59F-F458-4EA0-90FD-14C812C8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D41CC-8617-41E9-B59F-C4BA7662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626C3-589B-45A9-AA00-FE26167E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16E67-3385-4268-B712-53F0A898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1BA93-4214-45B8-AB27-7C68AA46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89F4F-F4E3-4810-BED1-99CBADF0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E77C6-70AC-4AE4-96F0-88A66486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ACF65-487E-4395-A001-26D9FDD3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76308-F84E-4F2C-AFEB-F0D85131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68704-D1D5-48DB-AA97-079E693D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C4151-2C84-4B7A-9FDA-33B0EC7F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8BDB-6EE6-4C50-8866-9D04072F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7C206-E549-4FEE-A9DB-7EE85ABD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F4ECC-3BBA-4DC9-A94C-2C169990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72607-002C-461F-A2AA-78EE8253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28FAA-ADF1-4987-815B-11FA5E7A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F895C-60BA-4042-A47D-DB927DE4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0A109-B203-4214-B6E5-AB82E2AE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C34E7-EEF8-4ECE-B9B2-1914E93E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483B4-174C-496E-B7DB-2529811C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D22B6-A5F3-45C4-8CF6-C8DA48BA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8E78B-172A-4E89-8837-B2B94004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B3B6-C199-4D0C-8C5B-92C59810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4E64E-6244-4955-90EC-91540923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A8F16-B533-4892-9CC7-40605C85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9EFE3-14FF-4E53-A633-DA8937C9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93AD7-07E1-4671-BF6A-957DE14D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83823-B04C-48DB-8044-2CA2265F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2CB69-AED0-44EF-8642-A1552698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53E3E-66BD-4B2D-AC32-BB41F31D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41EF-0066-4250-9DC9-C90605ADA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32AB-7731-46DF-B540-BCAB27816BA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9893-A620-4174-8496-89833523F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4246-6523-4B74-984D-78E49EA6E9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A92C-A2AF-466A-B2B9-16A3B88A3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E8C8-6C7D-41FA-8593-198919A32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5290-1321-47DE-9294-CB513648EB62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A84C-6B34-41F9-9034-7B0377CCB821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3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Katherine drove 18 miles from her house to the airport to pick up her daughter, Lindy.  Katherine arrived at the airport at 2:30 P.M.  Lindy’s plane was late, so Katherine was in the airport for 2 hours.  She then drove Lindy back to their house.  They arrived at the house at 5:00 P.M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0663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at is a good estimate of the total number of miles that Katherine drove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0663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ow many minutes was Katherine at the airport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at time did Katherine leave the airport with Lindy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ow long does it take to get from the airport to Katherine’s house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304560" y="1142640"/>
            <a:ext cx="83055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ctly how many miles is it from Katherine’s house to the airport and back to her house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7:02:23Z</dcterms:created>
  <dc:creator>127partidak</dc:creator>
  <dc:description/>
  <dc:language>en-US</dc:language>
  <cp:lastModifiedBy>127partidak</cp:lastModifiedBy>
  <dcterms:modified xsi:type="dcterms:W3CDTF">2011-11-21T17:07:20Z</dcterms:modified>
  <cp:revision>1</cp:revision>
  <dc:subject/>
  <dc:title>Information</dc:title>
</cp:coreProperties>
</file>